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08B5-767D-427B-9AAD-94E78AC1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4F74-5769-4CCA-AE97-E659D820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89D7-BF0D-4E77-9E12-728AE3DD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A22F-F192-4A86-A435-0EAA3868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63D2-8C7F-4756-B349-6F148913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9C96-D7CD-4FCE-9F6E-59BE7399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8F99-1011-4BD3-9A17-559EF6AF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5384-B8E1-4C2F-AACE-7901F531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7691-218B-4B70-B01D-27CB0F36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94E5-5293-4314-987A-F644AC05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167B-D8D2-4028-B6BE-4E084D36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ACB4-E002-41FC-A435-2770F7BD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5D2C-871D-403C-8D17-9E347D7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59B0-9611-4FD5-8B98-4BB79E40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3E9B-632E-4E87-B368-B62F77BD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381F-B39D-4FEF-9407-7E2B8D60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99BC-92A2-4237-89BA-E6F971E5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D878-E4C8-4E4E-BBAA-3F8FAF81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772A-324C-4F6A-AFBD-3F418F0A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DD71-8D58-433E-A86C-4CDA3D4F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AF7B-E705-404A-9601-1596E73C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F0DE-2155-45A7-AF24-F3967383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DCEC-1E02-40FA-8D5C-72A3C4A7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6606-B80B-417E-946A-71A52970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AA70-6FB0-4F9D-AFB4-43D50D574A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FC60-7010-4E87-957D-F0AD7BB70B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as Comida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28840" y="205740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Jessica Wr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ara el desayuno me gusta comer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590560" cy="2128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34290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ce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342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s 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857680" cy="1957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629400" y="12193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53080" y="3429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s hue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505320" y="4038480"/>
            <a:ext cx="2819160" cy="1873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05320" y="60958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6629400" y="38862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62940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 el almuerzo me gusta comer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438640" cy="2239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bacad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3005280" cy="2000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6720" y="35812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2743200" cy="1827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6095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ens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477120" y="1143000"/>
            <a:ext cx="2324160" cy="2324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00800" y="35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so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505320" y="4114800"/>
            <a:ext cx="2895480" cy="1936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505320" y="6095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hamburgu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78168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8168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limon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 la cena me gusta comer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3886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ca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886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pap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77120" y="1219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895480" y="1371600"/>
            <a:ext cx="3295800" cy="2471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895480" y="3809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arro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819520" y="4191120"/>
            <a:ext cx="3395520" cy="2244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6400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s panecil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judías ver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400800" y="4343400"/>
            <a:ext cx="2743200" cy="181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00800" y="6400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a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 el postre me gusta comer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438280" cy="237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3733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helado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2895480" cy="2357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895480" y="3733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gall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172200" y="1219320"/>
            <a:ext cx="2590920" cy="2455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7220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tor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0" y="41148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6324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 pas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505320" y="41148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505320" y="63244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s 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6934320" y="4114800"/>
            <a:ext cx="1531800" cy="2133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781680" y="6324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8:33Z</dcterms:created>
  <dc:creator>jessica</dc:creator>
  <dc:description/>
  <dc:language>en-US</dc:language>
  <cp:lastModifiedBy>jessica</cp:lastModifiedBy>
  <dcterms:modified xsi:type="dcterms:W3CDTF">2012-04-05T17:06:27Z</dcterms:modified>
  <cp:revision>9</cp:revision>
  <dc:subject/>
  <dc:title>Las Comidas</dc:title>
</cp:coreProperties>
</file>